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402264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3440" cy="383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2425d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4022640" y="972180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0D245145-2CF3-4C67-BABC-C700E6F31B02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morning and thank you for the introduc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im of the presentation is to describe different grid scheduling infrastructures that can be deployed using Globus com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92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need to disseminate all system monitoring information--&gt; can be aggreg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92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need to disseminate all system monitoring information--&gt; can be aggreg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nice picture shows how to deploy this kind of infrastructures using GridW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e have two different infrastructures, we have developed the GRAM adapters required to access a GridWay instance through a GRAM services, it is a way to virtualize a whole Grid, in the first Grid the second Grid is managed a any other resour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ifferent hierarchies can be deployed with these com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92160" indent="0">
              <a:spcBef>
                <a:spcPts val="1125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bed &amp; Experi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Way interfacing GT WS UCM local grid and GridGate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GateWay virtualizing resources from a partner g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sion VO from EGEE - GT pre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ter response of enterprise resources - and therefore less usage of EGEE resou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developed a new SGE Transfer Queue to forward jobs from the cluster to the Grid, the end users submits locally but the job is executed glob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is distributed approach is suited for … comprising resources that could be 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oal is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benefits of this approac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t allows the 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roviding 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roviding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main advantages of this kind of infrastructures is the …. That allows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is distributed approach is suited for … comprising resources that could be 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oal is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benefits of this approac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t allows the 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roviding 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roviding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main advantages of this kind of infrastructures is the …. That allows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time for questions. Comments, suggestion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ents of the presentation are 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will briefly describe the basic resources that make up a grid computing infra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, we will describe the grid middleware a s the software layer to integrate heterogeneous computational platforms that could belong to different administrative dom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two sections are an introduction to the main part of the presentation: a  proposal of taxonomy for grid computing infrastru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y-per-use model like gas water or 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pursues an scenario where computing power is given or taken (consumer/producer paradigm) from the different components that conform the grid based on the demand and offer of this computing power at a given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y-per-use model like gas water or 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nice picture shows how to deploy this kind of infrastructures using GridW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e have the applications layer where the end users can port their codes using the DRMAA standard and interface with the system using a portal or the C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elow the applications, we have the middleware layer consisting of the GridWay metascheduler on top of the Globus services available in the different resources: MDS…, one… that allows the grid manager to define grid-wid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elow… we have the infrastructure consisting of the cluster resources located in different sites or administrative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is distributed approach is suited for … comprising resources that could be 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oal is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benefits of this approac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t allows the 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roviding 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roviding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main advantages of this kind of infrastructures is the …. That allows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nice picture shows how to deploy this kind of infrastructures using GridW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e have users organized in sites, organization or virtual organizations, that interface with the infrastructure using a sience gateway (Portal or front-en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elow the applications, we have the middleware layer consisting of several GridWay metaschedulers, one per organization, on top of the Globus services available in the different resources: MDs…, multiple… do not allow the grid manager to define grid-wide…  but organization wid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elow… we have the infrastructure consisting of the cluster resources located in different sites or administrative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e aim is to use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sources are provided in a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oal is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benefits of this approac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t allows the 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roviding 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roviding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scheduling is perform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46200" y="0"/>
            <a:ext cx="831672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46200" y="0"/>
            <a:ext cx="831672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0800000">
            <a:off x="0" y="381960"/>
            <a:ext cx="9144000" cy="4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2425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647640" cy="6858000"/>
          </a:xfrm>
          <a:prstGeom prst="rect">
            <a:avLst/>
          </a:prstGeom>
          <a:solidFill>
            <a:srgbClr val="32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425d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172000" y="6581880"/>
            <a:ext cx="128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223DA-1EDE-4FAC-AB8F-1EF33A241DB8}" type="slidenum">
              <a:rPr b="1" lang="es-ES" sz="1400" spc="-1" strike="noStrike">
                <a:solidFill>
                  <a:srgbClr val="32425d"/>
                </a:solidFill>
                <a:latin typeface="Arial"/>
              </a:rPr>
              <a:t>&lt;number&gt;</a:t>
            </a:fld>
            <a:r>
              <a:rPr b="1" lang="es-ES" sz="1400" spc="-1" strike="noStrike">
                <a:solidFill>
                  <a:srgbClr val="32425d"/>
                </a:solidFill>
                <a:latin typeface="Arial"/>
              </a:rPr>
              <a:t>/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rcRect l="0" t="0" r="-22778" b="7285"/>
          <a:stretch/>
        </p:blipFill>
        <p:spPr>
          <a:xfrm>
            <a:off x="60480" y="5921280"/>
            <a:ext cx="623880" cy="7477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-39240" y="6657840"/>
            <a:ext cx="730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DSA Gro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lvl="1" marL="541440" indent="-181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1800" indent="-181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73240" indent="-92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2425d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098920" y="6539040"/>
            <a:ext cx="128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E24B0-8069-43EB-A49C-05AAFC620D4E}" type="slidenum">
              <a:rPr b="1" lang="es-ES" sz="1400" spc="-1" strike="noStrike">
                <a:solidFill>
                  <a:srgbClr val="32425d"/>
                </a:solidFill>
                <a:latin typeface="Arial"/>
              </a:rPr>
              <a:t>&lt;number&gt;</a:t>
            </a:fld>
            <a:r>
              <a:rPr b="1" lang="es-ES" sz="1400" spc="-1" strike="noStrike">
                <a:solidFill>
                  <a:srgbClr val="32425d"/>
                </a:solidFill>
                <a:latin typeface="Arial"/>
              </a:rPr>
              <a:t>/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lvl="1" marL="36036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8108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650960" algn="ctr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65096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65096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inova@fdi.ucm.es" TargetMode="External"/><Relationship Id="rId2" Type="http://schemas.openxmlformats.org/officeDocument/2006/relationships/hyperlink" Target="mailto:tinova@fdi.ucm.es" TargetMode="External"/><Relationship Id="rId3" Type="http://schemas.openxmlformats.org/officeDocument/2006/relationships/hyperlink" Target="mailto:tinova@fdi.ucm.es" TargetMode="External"/><Relationship Id="rId4" Type="http://schemas.openxmlformats.org/officeDocument/2006/relationships/hyperlink" Target="mailto:tinova@fdi.ucm.es" TargetMode="External"/><Relationship Id="rId5" Type="http://schemas.openxmlformats.org/officeDocument/2006/relationships/hyperlink" Target="mailto:tinova@fdi.ucm.es" TargetMode="External"/><Relationship Id="rId6" Type="http://schemas.openxmlformats.org/officeDocument/2006/relationships/image" Target="../media/image2.jpe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4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04920" y="1371600"/>
            <a:ext cx="8458200" cy="2057400"/>
          </a:xfrm>
          <a:prstGeom prst="roundRect">
            <a:avLst>
              <a:gd name="adj" fmla="val 12495"/>
            </a:avLst>
          </a:prstGeom>
          <a:solidFill>
            <a:srgbClr val="3242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29720" y="2587680"/>
            <a:ext cx="19562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PPAM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dansk, Pol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9-12 September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75120" y="3652920"/>
            <a:ext cx="4697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GB" sz="1600" spc="-1" strike="noStrike">
                <a:solidFill>
                  <a:srgbClr val="32425d"/>
                </a:solidFill>
                <a:latin typeface="Arial"/>
              </a:rPr>
              <a:t>Tino       Vázquez              (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inova@fdi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.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ucm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es</a:t>
            </a:r>
            <a:r>
              <a:rPr b="1" lang="en-GB" sz="1600" spc="-1" strike="noStrike">
                <a:solidFill>
                  <a:srgbClr val="32425d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1600" spc="-1" strike="noStrike">
                <a:solidFill>
                  <a:srgbClr val="32425d"/>
                </a:solidFill>
                <a:latin typeface="Arial"/>
              </a:rPr>
              <a:t>Javier     Fontá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1600" spc="-1" strike="noStrike">
                <a:solidFill>
                  <a:srgbClr val="32425d"/>
                </a:solidFill>
                <a:latin typeface="Arial"/>
              </a:rPr>
              <a:t>Eduardo Hue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1600" spc="-1" strike="noStrike">
                <a:solidFill>
                  <a:srgbClr val="32425d"/>
                </a:solidFill>
                <a:latin typeface="Arial"/>
              </a:rPr>
              <a:t>Rubén    S. Mont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1600" spc="-1" strike="noStrike">
                <a:solidFill>
                  <a:srgbClr val="32425d"/>
                </a:solidFill>
                <a:latin typeface="Arial"/>
              </a:rPr>
              <a:t>Ignacio   M. Llor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GB" sz="1600" spc="-1" strike="noStrike">
                <a:solidFill>
                  <a:srgbClr val="32425d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GB" sz="1600" spc="-1" strike="noStrike">
                <a:solidFill>
                  <a:srgbClr val="32425d"/>
                </a:solidFill>
                <a:latin typeface="Arial"/>
              </a:rPr>
              <a:t>Distributed Systems Architecture 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GB" sz="1600" spc="-1" strike="noStrike">
                <a:solidFill>
                  <a:srgbClr val="32425d"/>
                </a:solidFill>
                <a:latin typeface="Arial"/>
              </a:rPr>
              <a:t>Universidad Complutense de Mad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6"/>
          <a:srcRect l="0" t="0" r="0" b="22989"/>
          <a:stretch/>
        </p:blipFill>
        <p:spPr>
          <a:xfrm>
            <a:off x="914400" y="4038480"/>
            <a:ext cx="990720" cy="12114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45240" y="1676520"/>
            <a:ext cx="80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parent Access to Grid-Based Compute Utiliti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7"/>
          <a:srcRect l="0" t="0" r="87775" b="3486"/>
          <a:stretch/>
        </p:blipFill>
        <p:spPr>
          <a:xfrm>
            <a:off x="7543800" y="4114800"/>
            <a:ext cx="1143000" cy="1079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8"/>
          <a:stretch/>
        </p:blipFill>
        <p:spPr>
          <a:xfrm>
            <a:off x="2311560" y="5918040"/>
            <a:ext cx="454644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33240" y="395280"/>
            <a:ext cx="8137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11360" y="1230480"/>
            <a:ext cx="7916760" cy="57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93600" indent="-9360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nents to use Globus Toolkit services to recursively interface services available in a federated Globus-based Gr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standard functionality required to implement a gateway to a federated gr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s like a utility computing service, providing uniform standard access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mission and control of jobs, including file stag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eduler Adap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to be able to send jobs to GW via 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eduler Event Genera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for job state change notif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eduler Information Provid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feed MDS with scheduling 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7800" y="604800"/>
            <a:ext cx="6137280" cy="441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2425d"/>
                </a:solidFill>
                <a:latin typeface="Arial"/>
              </a:rPr>
              <a:t>What is i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39720" y="1044720"/>
            <a:ext cx="8035920" cy="0"/>
          </a:xfrm>
          <a:prstGeom prst="line">
            <a:avLst/>
          </a:prstGeom>
          <a:ln w="9360">
            <a:solidFill>
              <a:srgbClr val="32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46200" y="-7632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425d"/>
                </a:solidFill>
                <a:latin typeface="Arial"/>
              </a:rPr>
              <a:t>4. GridGateWay Architecture</a:t>
            </a: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77800" y="3827520"/>
            <a:ext cx="6137280" cy="441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2425d"/>
                </a:solidFill>
                <a:latin typeface="Arial"/>
                <a:ea typeface="ＭＳ Ｐゴシック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39720" y="4267080"/>
            <a:ext cx="8035920" cy="0"/>
          </a:xfrm>
          <a:prstGeom prst="line">
            <a:avLst/>
          </a:prstGeom>
          <a:ln w="9360">
            <a:solidFill>
              <a:srgbClr val="32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633240" y="395280"/>
            <a:ext cx="8137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11360" y="914400"/>
            <a:ext cx="7916760" cy="57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93600" indent="-9360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3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cu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3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ly Globus firewall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3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erent certificate mapping policies at each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3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al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3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heduling process divided into different lev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3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need to disseminate all system monitoring 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3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nd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3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om any GT-compatible third party t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3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operabil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3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erent MW stacks (GT preWS/WS, gLite, 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44400" y="604800"/>
            <a:ext cx="6137280" cy="441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2425d"/>
                </a:solidFill>
                <a:latin typeface="Arial"/>
              </a:rPr>
              <a:t>Advant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39720" y="1044720"/>
            <a:ext cx="8035920" cy="0"/>
          </a:xfrm>
          <a:prstGeom prst="line">
            <a:avLst/>
          </a:prstGeom>
          <a:ln w="9360">
            <a:solidFill>
              <a:srgbClr val="32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46200" y="-7632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425d"/>
                </a:solidFill>
                <a:latin typeface="Arial"/>
              </a:rPr>
              <a:t>4. GridGateWay Architecture</a:t>
            </a: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84360" y="1844640"/>
            <a:ext cx="4022640" cy="2952720"/>
          </a:xfrm>
          <a:prstGeom prst="roundRect">
            <a:avLst>
              <a:gd name="adj" fmla="val 5162"/>
            </a:avLst>
          </a:prstGeom>
          <a:gradFill rotWithShape="0">
            <a:gsLst>
              <a:gs pos="0">
                <a:srgbClr val="fefefe"/>
              </a:gs>
              <a:gs pos="100000">
                <a:srgbClr val="7083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28640" y="3478320"/>
            <a:ext cx="1150920" cy="3603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Glob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28640" y="3881520"/>
            <a:ext cx="1150920" cy="360360"/>
          </a:xfrm>
          <a:prstGeom prst="roundRect">
            <a:avLst>
              <a:gd name="adj" fmla="val 16667"/>
            </a:avLst>
          </a:prstGeom>
          <a:solidFill>
            <a:srgbClr val="b08b5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SGE Clu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28640" y="2392200"/>
            <a:ext cx="1150920" cy="360360"/>
          </a:xfrm>
          <a:prstGeom prst="roundRect">
            <a:avLst>
              <a:gd name="adj" fmla="val 16667"/>
            </a:avLst>
          </a:prstGeom>
          <a:solidFill>
            <a:srgbClr val="3242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28640" y="1989000"/>
            <a:ext cx="1150920" cy="360360"/>
          </a:xfrm>
          <a:prstGeom prst="roundRect">
            <a:avLst>
              <a:gd name="adj" fmla="val 16667"/>
            </a:avLst>
          </a:prstGeom>
          <a:solidFill>
            <a:srgbClr val="ffcc66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81080" y="3478320"/>
            <a:ext cx="1150920" cy="3603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Glob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81080" y="3881520"/>
            <a:ext cx="1150920" cy="360360"/>
          </a:xfrm>
          <a:prstGeom prst="roundRect">
            <a:avLst>
              <a:gd name="adj" fmla="val 16667"/>
            </a:avLst>
          </a:prstGeom>
          <a:solidFill>
            <a:srgbClr val="898951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PBS Clu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25760" y="3479760"/>
            <a:ext cx="1150920" cy="3603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Glob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425760" y="3882960"/>
            <a:ext cx="1150920" cy="360360"/>
          </a:xfrm>
          <a:prstGeom prst="roundRect">
            <a:avLst>
              <a:gd name="adj" fmla="val 16667"/>
            </a:avLst>
          </a:prstGeom>
          <a:solidFill>
            <a:srgbClr val="7083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LSF Clu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154320" y="3860640"/>
            <a:ext cx="24624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stCxn id="203" idx="2"/>
            <a:endCxn id="201" idx="0"/>
          </p:cNvCxnSpPr>
          <p:nvPr/>
        </p:nvCxnSpPr>
        <p:spPr>
          <a:xfrm flipV="1" rot="10800000">
            <a:off x="1304280" y="2752200"/>
            <a:ext cx="1080" cy="726480"/>
          </a:xfrm>
          <a:prstGeom prst="bentConnector2">
            <a:avLst/>
          </a:prstGeom>
          <a:ln w="76320">
            <a:solidFill>
              <a:srgbClr val="5f5f5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1" name=""/>
          <p:cNvCxnSpPr>
            <a:endCxn id="207" idx="0"/>
          </p:cNvCxnSpPr>
          <p:nvPr/>
        </p:nvCxnSpPr>
        <p:spPr>
          <a:xfrm>
            <a:off x="1330200" y="3104640"/>
            <a:ext cx="2672640" cy="375480"/>
          </a:xfrm>
          <a:prstGeom prst="bentConnector2">
            <a:avLst/>
          </a:prstGeom>
          <a:ln w="76320">
            <a:solidFill>
              <a:srgbClr val="5f5f5f"/>
            </a:solidFill>
            <a:miter/>
            <a:tailEnd len="med" type="triangle" w="med"/>
          </a:ln>
        </p:spPr>
      </p:cxnSp>
      <p:cxnSp>
        <p:nvCxnSpPr>
          <p:cNvPr id="212" name=""/>
          <p:cNvCxnSpPr>
            <a:endCxn id="205" idx="0"/>
          </p:cNvCxnSpPr>
          <p:nvPr/>
        </p:nvCxnSpPr>
        <p:spPr>
          <a:xfrm>
            <a:off x="1339920" y="3104640"/>
            <a:ext cx="1218240" cy="374040"/>
          </a:xfrm>
          <a:prstGeom prst="bentConnector2">
            <a:avLst/>
          </a:prstGeom>
          <a:ln w="76320">
            <a:solidFill>
              <a:srgbClr val="5f5f5f"/>
            </a:solidFill>
            <a:miter/>
            <a:tailEnd len="med" type="triangle" w="med"/>
          </a:ln>
        </p:spPr>
      </p:cxnSp>
      <p:sp>
        <p:nvSpPr>
          <p:cNvPr id="213" name=""/>
          <p:cNvSpPr/>
          <p:nvPr/>
        </p:nvSpPr>
        <p:spPr>
          <a:xfrm>
            <a:off x="1708200" y="4460760"/>
            <a:ext cx="196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rid Infra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88000" y="3357720"/>
            <a:ext cx="4311720" cy="3240000"/>
          </a:xfrm>
          <a:prstGeom prst="roundRect">
            <a:avLst>
              <a:gd name="adj" fmla="val 5162"/>
            </a:avLst>
          </a:prstGeom>
          <a:gradFill rotWithShape="0">
            <a:gsLst>
              <a:gs pos="0">
                <a:srgbClr val="fefefe"/>
              </a:gs>
              <a:gs pos="100000">
                <a:srgbClr val="7083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002200" y="5378400"/>
            <a:ext cx="1150920" cy="3603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Glob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59280" y="3429000"/>
            <a:ext cx="720720" cy="1295280"/>
          </a:xfrm>
          <a:custGeom>
            <a:avLst/>
            <a:gdLst>
              <a:gd name="textAreaLeft" fmla="*/ 24120 w 720720"/>
              <a:gd name="textAreaRight" fmla="*/ 696600 w 720720"/>
              <a:gd name="textAreaTop" fmla="*/ 24120 h 1295280"/>
              <a:gd name="textAreaBottom" fmla="*/ 1271160 h 1295280"/>
            </a:gdLst>
            <a:ahLst/>
            <a:rect l="textAreaLeft" t="textAreaTop" r="textAreaRight" b="textAreaBottom"/>
            <a:pathLst>
              <a:path w="21600" h="38811">
                <a:moveTo>
                  <a:pt x="2489" y="0"/>
                </a:moveTo>
                <a:arcTo wR="2489" hR="2489" stAng="16200000" swAng="-5400000"/>
                <a:lnTo>
                  <a:pt x="0" y="36322"/>
                </a:lnTo>
                <a:arcTo wR="2489" hR="2489" stAng="10800000" swAng="-5400000"/>
                <a:lnTo>
                  <a:pt x="19111" y="38811"/>
                </a:lnTo>
                <a:arcTo wR="2489" hR="2489" stAng="5400000" swAng="-5400000"/>
                <a:lnTo>
                  <a:pt x="21600" y="2489"/>
                </a:lnTo>
                <a:arcTo wR="2489" hR="2489" stAng="0" swAng="-5400000"/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02200" y="5781600"/>
            <a:ext cx="1150920" cy="360360"/>
          </a:xfrm>
          <a:prstGeom prst="roundRect">
            <a:avLst>
              <a:gd name="adj" fmla="val 16667"/>
            </a:avLst>
          </a:prstGeom>
          <a:solidFill>
            <a:srgbClr val="b08b5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SGE Clu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94200" y="4292640"/>
            <a:ext cx="1366920" cy="360360"/>
          </a:xfrm>
          <a:prstGeom prst="roundRect">
            <a:avLst>
              <a:gd name="adj" fmla="val 16667"/>
            </a:avLst>
          </a:prstGeom>
          <a:solidFill>
            <a:srgbClr val="3242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248520" y="5378400"/>
            <a:ext cx="1150920" cy="3603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Glob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248520" y="5781600"/>
            <a:ext cx="1150920" cy="360360"/>
          </a:xfrm>
          <a:prstGeom prst="roundRect">
            <a:avLst>
              <a:gd name="adj" fmla="val 16667"/>
            </a:avLst>
          </a:prstGeom>
          <a:solidFill>
            <a:srgbClr val="898951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PBS Clu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7818480" y="5380200"/>
            <a:ext cx="1150920" cy="763560"/>
            <a:chOff x="7818480" y="5380200"/>
            <a:chExt cx="1150920" cy="763560"/>
          </a:xfrm>
        </p:grpSpPr>
        <p:sp>
          <p:nvSpPr>
            <p:cNvPr id="222" name=""/>
            <p:cNvSpPr/>
            <p:nvPr/>
          </p:nvSpPr>
          <p:spPr>
            <a:xfrm>
              <a:off x="7818480" y="5380200"/>
              <a:ext cx="1150920" cy="36036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Glob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18480" y="5783400"/>
              <a:ext cx="1150920" cy="360360"/>
            </a:xfrm>
            <a:prstGeom prst="roundRect">
              <a:avLst>
                <a:gd name="adj" fmla="val 16667"/>
              </a:avLst>
            </a:prstGeom>
            <a:solidFill>
              <a:srgbClr val="7083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LSF Clus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7472520" y="5761080"/>
            <a:ext cx="24588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" name=""/>
          <p:cNvCxnSpPr>
            <a:stCxn id="218" idx="2"/>
            <a:endCxn id="215" idx="0"/>
          </p:cNvCxnSpPr>
          <p:nvPr/>
        </p:nvCxnSpPr>
        <p:spPr>
          <a:xfrm flipV="1" rot="10800000">
            <a:off x="5577840" y="4652640"/>
            <a:ext cx="1080" cy="726120"/>
          </a:xfrm>
          <a:prstGeom prst="bentConnector2">
            <a:avLst/>
          </a:prstGeom>
          <a:ln w="76320">
            <a:solidFill>
              <a:srgbClr val="5f5f5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6" name=""/>
          <p:cNvCxnSpPr>
            <a:endCxn id="222" idx="0"/>
          </p:cNvCxnSpPr>
          <p:nvPr/>
        </p:nvCxnSpPr>
        <p:spPr>
          <a:xfrm>
            <a:off x="5607000" y="5005080"/>
            <a:ext cx="2788560" cy="375480"/>
          </a:xfrm>
          <a:prstGeom prst="bentConnector2">
            <a:avLst/>
          </a:prstGeom>
          <a:ln w="76320">
            <a:solidFill>
              <a:srgbClr val="5f5f5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endCxn id="219" idx="0"/>
          </p:cNvCxnSpPr>
          <p:nvPr/>
        </p:nvCxnSpPr>
        <p:spPr>
          <a:xfrm>
            <a:off x="5607000" y="5005440"/>
            <a:ext cx="1218240" cy="373680"/>
          </a:xfrm>
          <a:prstGeom prst="bentConnector2">
            <a:avLst/>
          </a:prstGeom>
          <a:ln w="76320">
            <a:solidFill>
              <a:srgbClr val="5f5f5f"/>
            </a:solidFill>
            <a:miter/>
            <a:tailEnd len="med" type="triangle" w="med"/>
          </a:ln>
        </p:spPr>
      </p:cxnSp>
      <p:sp>
        <p:nvSpPr>
          <p:cNvPr id="228" name=""/>
          <p:cNvSpPr/>
          <p:nvPr/>
        </p:nvSpPr>
        <p:spPr>
          <a:xfrm>
            <a:off x="5987880" y="6259680"/>
            <a:ext cx="196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Grid Infra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613480" y="3889440"/>
            <a:ext cx="647640" cy="360360"/>
          </a:xfrm>
          <a:prstGeom prst="roundRect">
            <a:avLst>
              <a:gd name="adj" fmla="val 16667"/>
            </a:avLst>
          </a:prstGeom>
          <a:solidFill>
            <a:srgbClr val="ffcc66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/>
          <p:nvPr/>
        </p:nvCxnSpPr>
        <p:spPr>
          <a:xfrm>
            <a:off x="5216040" y="1960560"/>
            <a:ext cx="1080" cy="1526400"/>
          </a:xfrm>
          <a:prstGeom prst="straightConnector1">
            <a:avLst/>
          </a:prstGeom>
          <a:ln w="76320">
            <a:solidFill>
              <a:srgbClr val="960000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4944960" y="1569960"/>
            <a:ext cx="394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2425d"/>
                </a:solidFill>
                <a:latin typeface="Arial"/>
              </a:rPr>
              <a:t>globus-job-run, Condor/G, Nimrod/G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94200" y="3889440"/>
            <a:ext cx="647640" cy="360360"/>
          </a:xfrm>
          <a:prstGeom prst="roundRect">
            <a:avLst>
              <a:gd name="adj" fmla="val 16667"/>
            </a:avLst>
          </a:prstGeom>
          <a:solidFill>
            <a:srgbClr val="a8707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s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94200" y="3486240"/>
            <a:ext cx="647640" cy="3603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Narrow"/>
              </a:rPr>
              <a:t>Glo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endCxn id="233" idx="0"/>
          </p:cNvCxnSpPr>
          <p:nvPr/>
        </p:nvCxnSpPr>
        <p:spPr>
          <a:xfrm>
            <a:off x="1293480" y="3104640"/>
            <a:ext cx="3925080" cy="381960"/>
          </a:xfrm>
          <a:prstGeom prst="bentConnector2">
            <a:avLst/>
          </a:prstGeom>
          <a:ln w="76320">
            <a:solidFill>
              <a:srgbClr val="960000"/>
            </a:solidFill>
            <a:miter/>
            <a:tailEnd len="med" type="triangle" w="med"/>
          </a:ln>
        </p:spPr>
      </p:cxnSp>
      <p:sp>
        <p:nvSpPr>
          <p:cNvPr id="235" name=""/>
          <p:cNvSpPr/>
          <p:nvPr/>
        </p:nvSpPr>
        <p:spPr>
          <a:xfrm>
            <a:off x="5288760" y="2635200"/>
            <a:ext cx="342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Access to Outsourced Re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695680" y="5373720"/>
            <a:ext cx="1150920" cy="3603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Glob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695680" y="6191280"/>
            <a:ext cx="1150920" cy="360360"/>
          </a:xfrm>
          <a:prstGeom prst="roundRect">
            <a:avLst>
              <a:gd name="adj" fmla="val 16667"/>
            </a:avLst>
          </a:prstGeom>
          <a:solidFill>
            <a:srgbClr val="7083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Utility Gr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endCxn id="236" idx="0"/>
          </p:cNvCxnSpPr>
          <p:nvPr/>
        </p:nvCxnSpPr>
        <p:spPr>
          <a:xfrm flipV="1" rot="10800000">
            <a:off x="3270960" y="5001840"/>
            <a:ext cx="2275920" cy="372240"/>
          </a:xfrm>
          <a:prstGeom prst="bentConnector2">
            <a:avLst/>
          </a:prstGeom>
          <a:ln w="76320">
            <a:solidFill>
              <a:srgbClr val="960000"/>
            </a:solidFill>
            <a:miter/>
            <a:tailEnd len="med" type="triangle" w="med"/>
          </a:ln>
        </p:spPr>
      </p:cxnSp>
      <p:sp>
        <p:nvSpPr>
          <p:cNvPr id="239" name=""/>
          <p:cNvSpPr/>
          <p:nvPr/>
        </p:nvSpPr>
        <p:spPr>
          <a:xfrm>
            <a:off x="963720" y="5589720"/>
            <a:ext cx="150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Virtualiz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of a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777360" y="3471840"/>
            <a:ext cx="159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GRID-GATE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0800000">
            <a:off x="5624640" y="3513240"/>
            <a:ext cx="1008000" cy="21744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95440" y="528840"/>
            <a:ext cx="7630920" cy="441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2425d"/>
                </a:solidFill>
                <a:latin typeface="Arial"/>
              </a:rPr>
              <a:t>Utility Grid Infrastructures with GridGate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39720" y="968400"/>
            <a:ext cx="8035920" cy="0"/>
          </a:xfrm>
          <a:prstGeom prst="line">
            <a:avLst/>
          </a:prstGeom>
          <a:ln w="9360">
            <a:solidFill>
              <a:srgbClr val="32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697120" y="5781600"/>
            <a:ext cx="1150920" cy="360360"/>
          </a:xfrm>
          <a:prstGeom prst="roundRect">
            <a:avLst>
              <a:gd name="adj" fmla="val 16667"/>
            </a:avLst>
          </a:prstGeom>
          <a:solidFill>
            <a:srgbClr val="3242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46200" y="-7632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425d"/>
                </a:solidFill>
                <a:latin typeface="Arial"/>
              </a:rPr>
              <a:t>4. GridGateWay Architecture</a:t>
            </a: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33240" y="939960"/>
            <a:ext cx="8137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93720" y="3352680"/>
            <a:ext cx="791676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93600" indent="-9360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lication - distributed calculation o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utational time = 10 seconds per ta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 staging = 10K per tas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0 tas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3 in U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7 in EGEE - much higher response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46200" y="-7632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425d"/>
                </a:solidFill>
                <a:latin typeface="Arial"/>
              </a:rPr>
              <a:t>5. Experiment</a:t>
            </a: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62120" y="914400"/>
            <a:ext cx="79167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93600" indent="-9360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CM resources (Enterprise Gr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GEE resources (Partner Gr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bining using GridWay - Utility Grid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1960" y="604800"/>
            <a:ext cx="8124840" cy="441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2425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2425d"/>
                </a:solidFill>
                <a:latin typeface="Arial"/>
              </a:rPr>
              <a:t>Testb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39720" y="1044720"/>
            <a:ext cx="8035920" cy="0"/>
          </a:xfrm>
          <a:prstGeom prst="line">
            <a:avLst/>
          </a:prstGeom>
          <a:ln w="9360">
            <a:solidFill>
              <a:srgbClr val="32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1960" y="2989440"/>
            <a:ext cx="8124840" cy="441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2425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2425d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39720" y="3429000"/>
            <a:ext cx="8035920" cy="0"/>
          </a:xfrm>
          <a:prstGeom prst="line">
            <a:avLst/>
          </a:prstGeom>
          <a:ln w="9360">
            <a:solidFill>
              <a:srgbClr val="32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633240" y="395280"/>
            <a:ext cx="8137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11360" y="1219320"/>
            <a:ext cx="791676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93600" indent="-9360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61960" y="604800"/>
            <a:ext cx="8124840" cy="441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2425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2425d"/>
                </a:solidFill>
                <a:latin typeface="Arial"/>
              </a:rPr>
              <a:t>How the testbed looks li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39720" y="1044720"/>
            <a:ext cx="8035920" cy="0"/>
          </a:xfrm>
          <a:prstGeom prst="line">
            <a:avLst/>
          </a:prstGeom>
          <a:ln w="9360">
            <a:solidFill>
              <a:srgbClr val="32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46200" y="-7632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425d"/>
                </a:solidFill>
                <a:latin typeface="Arial"/>
              </a:rPr>
              <a:t>5. Experiment</a:t>
            </a: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8023320" cy="524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633240" y="395280"/>
            <a:ext cx="8137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8800" y="838080"/>
            <a:ext cx="791712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93600" indent="-9360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roughput of the whole testbed: 408.16  jobs/hour, of which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-house 297.96 jobs/hour vs Partner 121.65 jobs/h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61960" y="604800"/>
            <a:ext cx="8124840" cy="441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2425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2425d"/>
                </a:solidFill>
                <a:latin typeface="Arial"/>
              </a:rPr>
              <a:t>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39720" y="1044720"/>
            <a:ext cx="8035920" cy="0"/>
          </a:xfrm>
          <a:prstGeom prst="line">
            <a:avLst/>
          </a:prstGeom>
          <a:ln w="9360">
            <a:solidFill>
              <a:srgbClr val="32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46200" y="-7632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425d"/>
                </a:solidFill>
                <a:latin typeface="Arial"/>
              </a:rPr>
              <a:t>5. Experiment</a:t>
            </a: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835200" y="2133720"/>
            <a:ext cx="7473600" cy="465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633240" y="395280"/>
            <a:ext cx="8137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95440" y="879480"/>
            <a:ext cx="6983280" cy="441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2425d"/>
                </a:solidFill>
                <a:latin typeface="Arial"/>
              </a:rPr>
              <a:t>Transfer Queues: Seamless access to the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39720" y="1319040"/>
            <a:ext cx="8035920" cy="0"/>
          </a:xfrm>
          <a:prstGeom prst="line">
            <a:avLst/>
          </a:prstGeom>
          <a:ln w="9360">
            <a:solidFill>
              <a:srgbClr val="32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11360" y="1422360"/>
            <a:ext cx="791676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177840" indent="-177840" algn="just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e LRM systems with meta-schedulers (the other wa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 algn="just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 keep using the same interface, even applications (e.g. DRMA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144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772160" y="2952720"/>
            <a:ext cx="2235240" cy="1376280"/>
          </a:xfrm>
          <a:prstGeom prst="roundRect">
            <a:avLst>
              <a:gd name="adj" fmla="val 8468"/>
            </a:avLst>
          </a:prstGeom>
          <a:gradFill rotWithShape="0">
            <a:gsLst>
              <a:gs pos="0">
                <a:srgbClr val="eee6dc"/>
              </a:gs>
              <a:gs pos="100000">
                <a:srgbClr val="b08b5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computr1"/>
          <p:cNvSpPr/>
          <p:nvPr/>
        </p:nvSpPr>
        <p:spPr>
          <a:xfrm>
            <a:off x="4890960" y="3046320"/>
            <a:ext cx="576360" cy="544680"/>
          </a:xfrm>
          <a:prstGeom prst="pie">
            <a:avLst/>
          </a:prstGeom>
          <a:solidFill>
            <a:srgbClr val="89895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computr1"/>
          <p:cNvSpPr/>
          <p:nvPr/>
        </p:nvSpPr>
        <p:spPr>
          <a:xfrm>
            <a:off x="6283440" y="3046320"/>
            <a:ext cx="576000" cy="544680"/>
          </a:xfrm>
          <a:prstGeom prst="pie">
            <a:avLst/>
          </a:prstGeom>
          <a:solidFill>
            <a:srgbClr val="89895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computr1"/>
          <p:cNvSpPr/>
          <p:nvPr/>
        </p:nvSpPr>
        <p:spPr>
          <a:xfrm>
            <a:off x="4890960" y="3738600"/>
            <a:ext cx="576360" cy="544320"/>
          </a:xfrm>
          <a:prstGeom prst="pie">
            <a:avLst/>
          </a:prstGeom>
          <a:solidFill>
            <a:srgbClr val="89895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computr1"/>
          <p:cNvSpPr/>
          <p:nvPr/>
        </p:nvSpPr>
        <p:spPr>
          <a:xfrm>
            <a:off x="6283440" y="3738600"/>
            <a:ext cx="576000" cy="544320"/>
          </a:xfrm>
          <a:prstGeom prst="pie">
            <a:avLst/>
          </a:prstGeom>
          <a:solidFill>
            <a:srgbClr val="89895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411800" y="4381560"/>
            <a:ext cx="3960720" cy="1855800"/>
          </a:xfrm>
          <a:prstGeom prst="roundRect">
            <a:avLst>
              <a:gd name="adj" fmla="val 4898"/>
            </a:avLst>
          </a:prstGeom>
          <a:gradFill rotWithShape="0">
            <a:gsLst>
              <a:gs pos="0">
                <a:srgbClr val="e1e5ec"/>
              </a:gs>
              <a:gs pos="100000">
                <a:srgbClr val="7083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603680" y="5749920"/>
            <a:ext cx="1150920" cy="360360"/>
          </a:xfrm>
          <a:prstGeom prst="roundRect">
            <a:avLst>
              <a:gd name="adj" fmla="val 16667"/>
            </a:avLst>
          </a:prstGeom>
          <a:solidFill>
            <a:srgbClr val="b08b5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GE Clu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851440" y="5749920"/>
            <a:ext cx="1150920" cy="360360"/>
          </a:xfrm>
          <a:prstGeom prst="roundRect">
            <a:avLst>
              <a:gd name="adj" fmla="val 16667"/>
            </a:avLst>
          </a:prstGeom>
          <a:solidFill>
            <a:srgbClr val="89895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BS Clu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104240" y="5749920"/>
            <a:ext cx="1150920" cy="360360"/>
          </a:xfrm>
          <a:prstGeom prst="roundRect">
            <a:avLst>
              <a:gd name="adj" fmla="val 16667"/>
            </a:avLst>
          </a:prstGeom>
          <a:solidFill>
            <a:srgbClr val="7083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LSF Clu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4603680" y="4419720"/>
            <a:ext cx="3651480" cy="1231920"/>
            <a:chOff x="4603680" y="4419720"/>
            <a:chExt cx="3651480" cy="1231920"/>
          </a:xfrm>
        </p:grpSpPr>
        <p:sp>
          <p:nvSpPr>
            <p:cNvPr id="280" name=""/>
            <p:cNvSpPr/>
            <p:nvPr/>
          </p:nvSpPr>
          <p:spPr>
            <a:xfrm>
              <a:off x="7104240" y="5291280"/>
              <a:ext cx="1150920" cy="36036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Glob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603680" y="5289840"/>
              <a:ext cx="1150920" cy="36036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Glob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603680" y="4419720"/>
              <a:ext cx="1150920" cy="360360"/>
            </a:xfrm>
            <a:prstGeom prst="roundRect">
              <a:avLst>
                <a:gd name="adj" fmla="val 16667"/>
              </a:avLst>
            </a:prstGeom>
            <a:solidFill>
              <a:srgbClr val="3242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GridW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51440" y="5289840"/>
              <a:ext cx="1151280" cy="36036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Glob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4" name=""/>
            <p:cNvCxnSpPr>
              <a:endCxn id="280" idx="0"/>
            </p:cNvCxnSpPr>
            <p:nvPr/>
          </p:nvCxnSpPr>
          <p:spPr>
            <a:xfrm>
              <a:off x="5207040" y="5035680"/>
              <a:ext cx="2473920" cy="255960"/>
            </a:xfrm>
            <a:prstGeom prst="bentConnector2">
              <a:avLst/>
            </a:prstGeom>
            <a:ln w="54000">
              <a:solidFill>
                <a:srgbClr val="5f5f5f"/>
              </a:solidFill>
              <a:miter/>
              <a:tailEnd len="sm" type="triangle" w="sm"/>
            </a:ln>
          </p:spPr>
        </p:cxnSp>
        <p:cxnSp>
          <p:nvCxnSpPr>
            <p:cNvPr id="285" name=""/>
            <p:cNvCxnSpPr>
              <a:endCxn id="283" idx="0"/>
            </p:cNvCxnSpPr>
            <p:nvPr/>
          </p:nvCxnSpPr>
          <p:spPr>
            <a:xfrm>
              <a:off x="5206680" y="5035680"/>
              <a:ext cx="1221480" cy="254880"/>
            </a:xfrm>
            <a:prstGeom prst="bentConnector2">
              <a:avLst/>
            </a:prstGeom>
            <a:ln w="54000">
              <a:solidFill>
                <a:srgbClr val="5f5f5f"/>
              </a:solidFill>
              <a:miter/>
              <a:tailEnd len="sm" type="triangle" w="sm"/>
            </a:ln>
          </p:spPr>
        </p:cxnSp>
        <p:cxnSp>
          <p:nvCxnSpPr>
            <p:cNvPr id="286" name=""/>
            <p:cNvCxnSpPr>
              <a:stCxn id="282" idx="2"/>
              <a:endCxn id="281" idx="0"/>
            </p:cNvCxnSpPr>
            <p:nvPr/>
          </p:nvCxnSpPr>
          <p:spPr>
            <a:xfrm flipV="1" rot="10800000">
              <a:off x="5179320" y="4779720"/>
              <a:ext cx="1080" cy="510480"/>
            </a:xfrm>
            <a:prstGeom prst="bentConnector2">
              <a:avLst/>
            </a:prstGeom>
            <a:ln w="54000">
              <a:solidFill>
                <a:srgbClr val="5f5f5f"/>
              </a:solidFill>
              <a:miter/>
              <a:headEnd len="sm" type="triangle" w="sm"/>
              <a:tailEnd len="sm" type="triangle" w="sm"/>
            </a:ln>
          </p:spPr>
        </p:cxnSp>
      </p:grpSp>
      <p:sp>
        <p:nvSpPr>
          <p:cNvPr id="287" name=""/>
          <p:cNvSpPr/>
          <p:nvPr/>
        </p:nvSpPr>
        <p:spPr>
          <a:xfrm>
            <a:off x="3292560" y="3086280"/>
            <a:ext cx="252360" cy="2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544920" y="3086280"/>
            <a:ext cx="252360" cy="252360"/>
          </a:xfrm>
          <a:prstGeom prst="rect">
            <a:avLst/>
          </a:prstGeom>
          <a:solidFill>
            <a:srgbClr val="a8707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798720" y="3086280"/>
            <a:ext cx="252720" cy="252360"/>
          </a:xfrm>
          <a:prstGeom prst="rect">
            <a:avLst/>
          </a:prstGeom>
          <a:solidFill>
            <a:srgbClr val="a8707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3042720" y="308628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3042720" y="334476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292560" y="3787920"/>
            <a:ext cx="252360" cy="2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544920" y="3787920"/>
            <a:ext cx="252360" cy="2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798720" y="3787920"/>
            <a:ext cx="252720" cy="252360"/>
          </a:xfrm>
          <a:prstGeom prst="rect">
            <a:avLst/>
          </a:prstGeom>
          <a:solidFill>
            <a:srgbClr val="a8707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3042720" y="378792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3042720" y="404352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92560" y="4471920"/>
            <a:ext cx="252360" cy="252360"/>
          </a:xfrm>
          <a:prstGeom prst="rect">
            <a:avLst/>
          </a:prstGeom>
          <a:solidFill>
            <a:srgbClr val="a8707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544920" y="4471920"/>
            <a:ext cx="252360" cy="252360"/>
          </a:xfrm>
          <a:prstGeom prst="rect">
            <a:avLst/>
          </a:prstGeom>
          <a:solidFill>
            <a:srgbClr val="a8707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798720" y="4471920"/>
            <a:ext cx="252720" cy="252360"/>
          </a:xfrm>
          <a:prstGeom prst="rect">
            <a:avLst/>
          </a:prstGeom>
          <a:solidFill>
            <a:srgbClr val="a8707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3042720" y="447192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3042720" y="472752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80160" y="3301920"/>
            <a:ext cx="24588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780160" y="4022640"/>
            <a:ext cx="24588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4" name=""/>
          <p:cNvCxnSpPr>
            <a:stCxn id="289" idx="3"/>
            <a:endCxn id="271" idx="14"/>
          </p:cNvCxnSpPr>
          <p:nvPr/>
        </p:nvCxnSpPr>
        <p:spPr>
          <a:xfrm>
            <a:off x="4051080" y="3213000"/>
            <a:ext cx="89604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294" idx="3"/>
            <a:endCxn id="273" idx="14"/>
          </p:cNvCxnSpPr>
          <p:nvPr/>
        </p:nvCxnSpPr>
        <p:spPr>
          <a:xfrm flipV="1">
            <a:off x="4051080" y="3909240"/>
            <a:ext cx="89604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6" name=""/>
          <p:cNvCxnSpPr>
            <a:stCxn id="299" idx="3"/>
            <a:endCxn id="282" idx="1"/>
          </p:cNvCxnSpPr>
          <p:nvPr/>
        </p:nvCxnSpPr>
        <p:spPr>
          <a:xfrm>
            <a:off x="4051440" y="4599000"/>
            <a:ext cx="5529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7" name=""/>
          <p:cNvCxnSpPr>
            <a:endCxn id="287" idx="1"/>
          </p:cNvCxnSpPr>
          <p:nvPr/>
        </p:nvCxnSpPr>
        <p:spPr>
          <a:xfrm flipV="1">
            <a:off x="2536560" y="3212280"/>
            <a:ext cx="756360" cy="710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8" name=""/>
          <p:cNvCxnSpPr>
            <a:endCxn id="292" idx="1"/>
          </p:cNvCxnSpPr>
          <p:nvPr/>
        </p:nvCxnSpPr>
        <p:spPr>
          <a:xfrm flipV="1">
            <a:off x="2536560" y="3914280"/>
            <a:ext cx="75636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9" name=""/>
          <p:cNvCxnSpPr>
            <a:endCxn id="297" idx="1"/>
          </p:cNvCxnSpPr>
          <p:nvPr/>
        </p:nvCxnSpPr>
        <p:spPr>
          <a:xfrm>
            <a:off x="2536560" y="3922200"/>
            <a:ext cx="756360" cy="67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0" name=""/>
          <p:cNvSpPr/>
          <p:nvPr/>
        </p:nvSpPr>
        <p:spPr>
          <a:xfrm>
            <a:off x="1736640" y="2870280"/>
            <a:ext cx="792360" cy="360360"/>
          </a:xfrm>
          <a:prstGeom prst="roundRect">
            <a:avLst>
              <a:gd name="adj" fmla="val 16667"/>
            </a:avLst>
          </a:prstGeom>
          <a:solidFill>
            <a:srgbClr val="ffcc66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36640" y="3662280"/>
            <a:ext cx="792360" cy="505080"/>
          </a:xfrm>
          <a:prstGeom prst="roundRect">
            <a:avLst>
              <a:gd name="adj" fmla="val 16667"/>
            </a:avLst>
          </a:prstGeom>
          <a:solidFill>
            <a:srgbClr val="b08b5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GE Clu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290000" y="3456000"/>
            <a:ext cx="160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cal Re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569640" y="446400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id Infrastru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ny typ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5400000">
            <a:off x="1953720" y="3259080"/>
            <a:ext cx="358920" cy="358920"/>
          </a:xfrm>
          <a:custGeom>
            <a:avLst/>
            <a:gdLst>
              <a:gd name="textAreaLeft" fmla="*/ 0 w 358920"/>
              <a:gd name="textAreaRight" fmla="*/ 359280 w 35892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284" y="0"/>
                </a:lnTo>
                <a:lnTo>
                  <a:pt x="21600" y="10800"/>
                </a:lnTo>
                <a:lnTo>
                  <a:pt x="1328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b08b59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188520" y="4802040"/>
            <a:ext cx="89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ns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955800" y="5162400"/>
            <a:ext cx="2233440" cy="792360"/>
          </a:xfrm>
          <a:prstGeom prst="wedgeRectCallout">
            <a:avLst>
              <a:gd name="adj1" fmla="val 60662"/>
              <a:gd name="adj2" fmla="val -115930"/>
            </a:avLst>
          </a:prstGeom>
          <a:gradFill rotWithShape="0">
            <a:gsLst>
              <a:gs pos="0">
                <a:srgbClr val="f3f3fe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ob submitted to the cluster but executed in the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33240" y="395280"/>
            <a:ext cx="8137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425d"/>
                </a:solidFill>
                <a:latin typeface="Arial"/>
              </a:rPr>
              <a:t>From the Cluster to the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46200" y="-7632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425d"/>
                </a:solidFill>
                <a:latin typeface="Arial"/>
              </a:rPr>
              <a:t>6. SGE Transfer Queue to Globus</a:t>
            </a: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633240" y="395280"/>
            <a:ext cx="8137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11360" y="1459080"/>
            <a:ext cx="791676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93600" indent="-93600" algn="just">
              <a:lnSpc>
                <a:spcPct val="122000"/>
              </a:lnSpc>
              <a:spcBef>
                <a:spcPts val="1125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 that meets requireme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utilit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200000"/>
              </a:lnSpc>
              <a:spcBef>
                <a:spcPts val="1125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form, secure and reliable functionality to access the u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alable, flexible and adaptive infrastructure to provide the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lution based on standard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ployment requires minimum changes to existing infrastru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77800" y="604800"/>
            <a:ext cx="6137280" cy="441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2425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2425d"/>
                </a:solidFill>
                <a:latin typeface="Arial"/>
              </a:rPr>
              <a:t>Achiev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39720" y="1044720"/>
            <a:ext cx="8035920" cy="0"/>
          </a:xfrm>
          <a:prstGeom prst="line">
            <a:avLst/>
          </a:prstGeom>
          <a:ln w="9360">
            <a:solidFill>
              <a:srgbClr val="32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46200" y="-7632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425d"/>
                </a:solidFill>
                <a:latin typeface="Arial"/>
              </a:rPr>
              <a:t>7. Conclusions</a:t>
            </a: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33240" y="395280"/>
            <a:ext cx="8137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11360" y="1459080"/>
            <a:ext cx="791676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93600" indent="-9360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new functionality to GridGate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 scheduling policies for enterprise, partner and utility grid infrastru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curity and certificate management poli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illing and computational econom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ning components to reduce latency and increase through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ing policies to reduce total execution time consider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t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roughpu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wnership 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77800" y="604800"/>
            <a:ext cx="6137280" cy="441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2425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2425d"/>
                </a:solidFill>
                <a:latin typeface="Arial"/>
              </a:rPr>
              <a:t>Future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39720" y="1044720"/>
            <a:ext cx="8035920" cy="0"/>
          </a:xfrm>
          <a:prstGeom prst="line">
            <a:avLst/>
          </a:prstGeom>
          <a:ln w="9360">
            <a:solidFill>
              <a:srgbClr val="32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46200" y="-7632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425d"/>
                </a:solidFill>
                <a:latin typeface="Arial"/>
              </a:rPr>
              <a:t>7. Conclusions</a:t>
            </a: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4065480" y="616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50920" y="1692360"/>
            <a:ext cx="864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hank you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for your attention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08120" y="-360"/>
            <a:ext cx="81374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425d"/>
                </a:solidFill>
                <a:latin typeface="Arial"/>
              </a:rPr>
              <a:t>QUESTIONS?</a:t>
            </a: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3581280" y="3787920"/>
            <a:ext cx="1892520" cy="185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46200" y="-76320"/>
            <a:ext cx="7488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425d"/>
                </a:solidFill>
                <a:latin typeface="Arial"/>
              </a:rPr>
              <a:t>Contents</a:t>
            </a: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00000" y="719280"/>
            <a:ext cx="763596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tility Comp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id Infrastructu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idGateWay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ri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GE Transfer Queue to Glo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3600" indent="-4572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11360" y="1190520"/>
            <a:ext cx="805176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rovid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echnology needed to en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176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reati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176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ombin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17640" algn="just"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17640" algn="just"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f different grid architectu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17640" algn="just"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offers the possibility to creat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 Federated Gri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approach aims for the Utility Computing paradig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176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176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3240" y="395280"/>
            <a:ext cx="8137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46200" y="-7632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425d"/>
                </a:solidFill>
                <a:latin typeface="Arial"/>
              </a:rPr>
              <a:t>1. Objective</a:t>
            </a: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88960" y="452520"/>
            <a:ext cx="6137280" cy="441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2425d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32425d"/>
                </a:solidFill>
                <a:latin typeface="Arial"/>
                <a:ea typeface="ＭＳ Ｐゴシック"/>
              </a:rPr>
              <a:t>What do we want to achiev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50880" y="892080"/>
            <a:ext cx="8035920" cy="0"/>
          </a:xfrm>
          <a:prstGeom prst="line">
            <a:avLst/>
          </a:prstGeom>
          <a:ln w="9360">
            <a:solidFill>
              <a:srgbClr val="32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11360" y="990720"/>
            <a:ext cx="8051760" cy="65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 provisioning model which will provid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daptive, flexible and simp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 to computing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ables a pay-per-use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cess on dem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 in the power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duce fixed costs (IT becomes variable co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vide access to unlimited computational capa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proves flexibility - resource provision becom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re ag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re adaptiv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3240" y="395280"/>
            <a:ext cx="8137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46200" y="-7632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425d"/>
                </a:solidFill>
                <a:latin typeface="Arial"/>
              </a:rPr>
              <a:t>2. Utility Computing </a:t>
            </a: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7800" y="528840"/>
            <a:ext cx="6137280" cy="441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2425d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32425d"/>
                </a:solidFill>
                <a:latin typeface="Arial"/>
                <a:ea typeface="ＭＳ Ｐゴシック"/>
              </a:rPr>
              <a:t>What is i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9720" y="968400"/>
            <a:ext cx="8035920" cy="0"/>
          </a:xfrm>
          <a:prstGeom prst="line">
            <a:avLst/>
          </a:prstGeom>
          <a:ln w="9360">
            <a:solidFill>
              <a:srgbClr val="32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88960" y="3272040"/>
            <a:ext cx="6137280" cy="441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2425d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32425d"/>
                </a:solidFill>
                <a:latin typeface="Arial"/>
                <a:ea typeface="ＭＳ Ｐゴシック"/>
              </a:rPr>
              <a:t>Benef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50880" y="3711600"/>
            <a:ext cx="8035920" cy="0"/>
          </a:xfrm>
          <a:prstGeom prst="line">
            <a:avLst/>
          </a:prstGeom>
          <a:ln w="9360">
            <a:solidFill>
              <a:srgbClr val="32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711360" y="990720"/>
            <a:ext cx="827244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3240" y="395280"/>
            <a:ext cx="8137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46200" y="-7632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425d"/>
                </a:solidFill>
                <a:latin typeface="Arial"/>
              </a:rPr>
              <a:t>3. Grid Infrastructures </a:t>
            </a: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11360" y="1050840"/>
            <a:ext cx="825336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93600" indent="-9360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mall” scale infrastructures (campus/enterprise) with one meta-scheduler instance providing  access to resources within the same administration domain that may be running different DRMS and be geographically distribu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 &amp; Benef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grate multiple systems, that could be heterogeneous, in a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form/centralized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ra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oupling of applications and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rove return of IT invest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formance/Usage maxim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entralized meta-scheduler that allows the enforcement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id-wide polic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e.g. resource usage) and provid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entralized accoun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7800" y="528840"/>
            <a:ext cx="6137280" cy="441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2425d"/>
                </a:solidFill>
                <a:latin typeface="Arial"/>
              </a:rPr>
              <a:t>Enterprise Grid Infra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39720" y="968400"/>
            <a:ext cx="8035920" cy="0"/>
          </a:xfrm>
          <a:prstGeom prst="line">
            <a:avLst/>
          </a:prstGeom>
          <a:ln w="9360">
            <a:solidFill>
              <a:srgbClr val="32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77800" y="681120"/>
            <a:ext cx="7432560" cy="441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2425d"/>
                </a:solidFill>
                <a:latin typeface="Arial"/>
              </a:rPr>
              <a:t>Deploying Enterprise Grids with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39720" y="1120680"/>
            <a:ext cx="8035920" cy="0"/>
          </a:xfrm>
          <a:prstGeom prst="line">
            <a:avLst/>
          </a:prstGeom>
          <a:ln w="9360">
            <a:solidFill>
              <a:srgbClr val="32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755640" y="1797120"/>
            <a:ext cx="8304840" cy="4154400"/>
            <a:chOff x="755640" y="1797120"/>
            <a:chExt cx="8304840" cy="4154400"/>
          </a:xfrm>
        </p:grpSpPr>
        <p:sp>
          <p:nvSpPr>
            <p:cNvPr id="119" name=""/>
            <p:cNvSpPr/>
            <p:nvPr/>
          </p:nvSpPr>
          <p:spPr>
            <a:xfrm>
              <a:off x="790560" y="1797120"/>
              <a:ext cx="8209080" cy="118908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fef3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0560" y="2948040"/>
              <a:ext cx="8209080" cy="1871640"/>
            </a:xfrm>
            <a:prstGeom prst="rect">
              <a:avLst/>
            </a:prstGeom>
            <a:gradFill rotWithShape="0">
              <a:gsLst>
                <a:gs pos="0">
                  <a:srgbClr val="7083a8"/>
                </a:gs>
                <a:gs pos="100000">
                  <a:srgbClr val="e1e5e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90560" y="4816440"/>
              <a:ext cx="8209080" cy="1084320"/>
            </a:xfrm>
            <a:prstGeom prst="rect">
              <a:avLst/>
            </a:prstGeom>
            <a:gradFill rotWithShape="0">
              <a:gsLst>
                <a:gs pos="0">
                  <a:srgbClr val="b08b59"/>
                </a:gs>
                <a:gs pos="100000">
                  <a:srgbClr val="eee6d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352520" y="5062680"/>
              <a:ext cx="1150920" cy="360360"/>
            </a:xfrm>
            <a:prstGeom prst="roundRect">
              <a:avLst>
                <a:gd name="adj" fmla="val 16667"/>
              </a:avLst>
            </a:prstGeom>
            <a:solidFill>
              <a:srgbClr val="b08b5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SGE Clus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352520" y="2471760"/>
              <a:ext cx="1150920" cy="36036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s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604960" y="5062680"/>
              <a:ext cx="1150920" cy="360360"/>
            </a:xfrm>
            <a:prstGeom prst="roundRect">
              <a:avLst>
                <a:gd name="adj" fmla="val 16667"/>
              </a:avLst>
            </a:prstGeom>
            <a:solidFill>
              <a:srgbClr val="89895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PBS Clus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75280" y="5062680"/>
              <a:ext cx="1150920" cy="360360"/>
            </a:xfrm>
            <a:prstGeom prst="roundRect">
              <a:avLst>
                <a:gd name="adj" fmla="val 16667"/>
              </a:avLst>
            </a:prstGeom>
            <a:solidFill>
              <a:srgbClr val="7083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LSF Clus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1352520" y="3059280"/>
              <a:ext cx="3973680" cy="1447200"/>
              <a:chOff x="1352520" y="3059280"/>
              <a:chExt cx="3973680" cy="1447200"/>
            </a:xfrm>
          </p:grpSpPr>
          <p:sp>
            <p:nvSpPr>
              <p:cNvPr id="127" name=""/>
              <p:cNvSpPr/>
              <p:nvPr/>
            </p:nvSpPr>
            <p:spPr>
              <a:xfrm>
                <a:off x="1352520" y="4144680"/>
                <a:ext cx="1151280" cy="360000"/>
              </a:xfrm>
              <a:prstGeom prst="roundRect">
                <a:avLst>
                  <a:gd name="adj" fmla="val 16667"/>
                </a:avLst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Globu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352520" y="3059280"/>
                <a:ext cx="1151280" cy="360000"/>
              </a:xfrm>
              <a:prstGeom prst="roundRect">
                <a:avLst>
                  <a:gd name="adj" fmla="val 16667"/>
                </a:avLst>
              </a:prstGeom>
              <a:solidFill>
                <a:srgbClr val="3242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ffffff"/>
                    </a:solidFill>
                    <a:latin typeface="Arial"/>
                  </a:rPr>
                  <a:t>GridWa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605320" y="4144680"/>
                <a:ext cx="1150920" cy="360000"/>
              </a:xfrm>
              <a:prstGeom prst="roundRect">
                <a:avLst>
                  <a:gd name="adj" fmla="val 16667"/>
                </a:avLst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Globu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175280" y="4146480"/>
                <a:ext cx="1150920" cy="360000"/>
              </a:xfrm>
              <a:prstGeom prst="roundRect">
                <a:avLst>
                  <a:gd name="adj" fmla="val 16667"/>
                </a:avLst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Globu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31" name=""/>
              <p:cNvCxnSpPr>
                <a:endCxn id="130" idx="0"/>
              </p:cNvCxnSpPr>
              <p:nvPr/>
            </p:nvCxnSpPr>
            <p:spPr>
              <a:xfrm>
                <a:off x="1963800" y="3771720"/>
                <a:ext cx="2788560" cy="375120"/>
              </a:xfrm>
              <a:prstGeom prst="bentConnector2">
                <a:avLst/>
              </a:prstGeom>
              <a:ln w="76320">
                <a:solidFill>
                  <a:srgbClr val="5f5f5f"/>
                </a:solidFill>
                <a:miter/>
                <a:tailEnd len="med" type="triangle" w="med"/>
              </a:ln>
            </p:spPr>
          </p:cxnSp>
          <p:cxnSp>
            <p:nvCxnSpPr>
              <p:cNvPr id="132" name=""/>
              <p:cNvCxnSpPr>
                <a:endCxn id="129" idx="0"/>
              </p:cNvCxnSpPr>
              <p:nvPr/>
            </p:nvCxnSpPr>
            <p:spPr>
              <a:xfrm>
                <a:off x="1963800" y="3771360"/>
                <a:ext cx="1218240" cy="373320"/>
              </a:xfrm>
              <a:prstGeom prst="bentConnector2">
                <a:avLst/>
              </a:prstGeom>
              <a:ln w="76320">
                <a:solidFill>
                  <a:srgbClr val="5f5f5f"/>
                </a:solidFill>
                <a:miter/>
                <a:tailEnd len="med" type="triangle" w="med"/>
              </a:ln>
            </p:spPr>
          </p:cxnSp>
          <p:cxnSp>
            <p:nvCxnSpPr>
              <p:cNvPr id="133" name=""/>
              <p:cNvCxnSpPr/>
              <p:nvPr/>
            </p:nvCxnSpPr>
            <p:spPr>
              <a:xfrm flipV="1" rot="10800000">
                <a:off x="1928160" y="3418920"/>
                <a:ext cx="1080" cy="725760"/>
              </a:xfrm>
              <a:prstGeom prst="bentConnector2">
                <a:avLst/>
              </a:prstGeom>
              <a:ln w="76320">
                <a:solidFill>
                  <a:srgbClr val="5f5f5f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134" name=""/>
            <p:cNvSpPr/>
            <p:nvPr/>
          </p:nvSpPr>
          <p:spPr>
            <a:xfrm>
              <a:off x="3830760" y="5241960"/>
              <a:ext cx="245880" cy="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38680" y="4565520"/>
              <a:ext cx="245880" cy="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394040" y="5583240"/>
              <a:ext cx="166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fra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506720" y="2610000"/>
              <a:ext cx="155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615080" y="4460760"/>
              <a:ext cx="142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iddlewa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616720" y="5031000"/>
              <a:ext cx="3238200" cy="577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uld be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eterogeneous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and geographically distribu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755640" y="4820760"/>
              <a:ext cx="8244000" cy="32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0560" y="2948040"/>
              <a:ext cx="8209080" cy="7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0560" y="1797120"/>
              <a:ext cx="8209080" cy="410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616720" y="3433680"/>
              <a:ext cx="3238200" cy="900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ices: MDS, GRAM,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ridFT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ne scheduling inst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rid-wide polic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43720" y="1911240"/>
              <a:ext cx="3238200" cy="649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RMAA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ortal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d/or CLI acc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46200" y="-7632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425d"/>
                </a:solidFill>
                <a:latin typeface="Arial"/>
              </a:rPr>
              <a:t>3. Grid Infrastructures</a:t>
            </a: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711360" y="1143000"/>
            <a:ext cx="791676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93600" indent="-9360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rge” scale infrastructures with one or several meta-scheduler instances providing access to resources that belong to different administrative domains (different organizations or partne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 &amp; Benef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rge-scale, secure and reliable sharing of resources between partners or supply-chain particip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 for collaborative pro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ess to higher computing power to satisfy peak dem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entralized scheduling system that allows the enforcement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zation-wi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oli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7800" y="528840"/>
            <a:ext cx="6137280" cy="441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2425d"/>
                </a:solidFill>
                <a:latin typeface="Arial"/>
              </a:rPr>
              <a:t>Partner Grid Infra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39720" y="968400"/>
            <a:ext cx="8035920" cy="0"/>
          </a:xfrm>
          <a:prstGeom prst="line">
            <a:avLst/>
          </a:prstGeom>
          <a:ln w="9360">
            <a:solidFill>
              <a:srgbClr val="32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46200" y="-7632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425d"/>
                </a:solidFill>
                <a:latin typeface="Arial"/>
              </a:rPr>
              <a:t>3. Grid Infrastructures</a:t>
            </a: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755640" y="1844640"/>
            <a:ext cx="8209080" cy="13273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f3d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3133800"/>
            <a:ext cx="8209080" cy="1871640"/>
          </a:xfrm>
          <a:prstGeom prst="rect">
            <a:avLst/>
          </a:prstGeom>
          <a:gradFill rotWithShape="0">
            <a:gsLst>
              <a:gs pos="0">
                <a:srgbClr val="7083a8"/>
              </a:gs>
              <a:gs pos="100000">
                <a:srgbClr val="e1e5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55640" y="5002200"/>
            <a:ext cx="8209080" cy="1163520"/>
          </a:xfrm>
          <a:prstGeom prst="rect">
            <a:avLst/>
          </a:prstGeom>
          <a:gradFill rotWithShape="0">
            <a:gsLst>
              <a:gs pos="0">
                <a:srgbClr val="b08b59"/>
              </a:gs>
              <a:gs pos="100000">
                <a:srgbClr val="eee6d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317600" y="5248440"/>
            <a:ext cx="1150920" cy="360360"/>
          </a:xfrm>
          <a:prstGeom prst="roundRect">
            <a:avLst>
              <a:gd name="adj" fmla="val 16667"/>
            </a:avLst>
          </a:prstGeom>
          <a:solidFill>
            <a:srgbClr val="b08b5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GE Clu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17600" y="2486160"/>
            <a:ext cx="1150920" cy="36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70040" y="5248440"/>
            <a:ext cx="1150920" cy="360360"/>
          </a:xfrm>
          <a:prstGeom prst="roundRect">
            <a:avLst>
              <a:gd name="adj" fmla="val 16667"/>
            </a:avLst>
          </a:prstGeom>
          <a:solidFill>
            <a:srgbClr val="89895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BS Clu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40360" y="5248440"/>
            <a:ext cx="1150920" cy="360360"/>
          </a:xfrm>
          <a:prstGeom prst="roundRect">
            <a:avLst>
              <a:gd name="adj" fmla="val 16667"/>
            </a:avLst>
          </a:prstGeom>
          <a:solidFill>
            <a:srgbClr val="7083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LSF Clu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17600" y="4330800"/>
            <a:ext cx="1150920" cy="3603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Glob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317600" y="3244680"/>
            <a:ext cx="1150920" cy="360360"/>
          </a:xfrm>
          <a:prstGeom prst="roundRect">
            <a:avLst>
              <a:gd name="adj" fmla="val 16667"/>
            </a:avLst>
          </a:prstGeom>
          <a:solidFill>
            <a:srgbClr val="3242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70040" y="4330800"/>
            <a:ext cx="1150920" cy="3603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Glob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40360" y="4332240"/>
            <a:ext cx="1150920" cy="3603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Glob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endCxn id="160" idx="0"/>
          </p:cNvCxnSpPr>
          <p:nvPr/>
        </p:nvCxnSpPr>
        <p:spPr>
          <a:xfrm>
            <a:off x="1928520" y="3957120"/>
            <a:ext cx="2788200" cy="375480"/>
          </a:xfrm>
          <a:prstGeom prst="bentConnector2">
            <a:avLst/>
          </a:prstGeom>
          <a:ln w="76320">
            <a:solidFill>
              <a:srgbClr val="5f5f5f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endCxn id="159" idx="0"/>
          </p:cNvCxnSpPr>
          <p:nvPr/>
        </p:nvCxnSpPr>
        <p:spPr>
          <a:xfrm>
            <a:off x="1928880" y="3957120"/>
            <a:ext cx="1218240" cy="374040"/>
          </a:xfrm>
          <a:prstGeom prst="bentConnector2">
            <a:avLst/>
          </a:prstGeom>
          <a:ln w="76320">
            <a:solidFill>
              <a:srgbClr val="5f5f5f"/>
            </a:solidFill>
            <a:miter/>
            <a:tailEnd len="med" type="triangle" w="med"/>
          </a:ln>
        </p:spPr>
      </p:cxnSp>
      <p:cxnSp>
        <p:nvCxnSpPr>
          <p:cNvPr id="163" name=""/>
          <p:cNvCxnSpPr/>
          <p:nvPr/>
        </p:nvCxnSpPr>
        <p:spPr>
          <a:xfrm flipV="1" rot="10800000">
            <a:off x="1893240" y="3604680"/>
            <a:ext cx="1080" cy="726480"/>
          </a:xfrm>
          <a:prstGeom prst="bentConnector2">
            <a:avLst/>
          </a:prstGeom>
          <a:ln w="76320">
            <a:solidFill>
              <a:srgbClr val="5f5f5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4" name=""/>
          <p:cNvSpPr/>
          <p:nvPr/>
        </p:nvSpPr>
        <p:spPr>
          <a:xfrm>
            <a:off x="3808440" y="5452920"/>
            <a:ext cx="24588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7800" y="627120"/>
            <a:ext cx="7290000" cy="441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2425d"/>
                </a:solidFill>
                <a:latin typeface="Arial"/>
              </a:rPr>
              <a:t>Deploying Partner Grids with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39720" y="1066680"/>
            <a:ext cx="8035920" cy="0"/>
          </a:xfrm>
          <a:prstGeom prst="line">
            <a:avLst/>
          </a:prstGeom>
          <a:ln w="9360">
            <a:solidFill>
              <a:srgbClr val="32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3760" y="4508640"/>
            <a:ext cx="24588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297200" y="582768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428960" y="279576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537320" y="4646520"/>
            <a:ext cx="142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ddle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581800" y="5216400"/>
            <a:ext cx="3238200" cy="577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Admin. Doma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rganiz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720720" y="5006520"/>
            <a:ext cx="8244000" cy="3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55640" y="1844640"/>
            <a:ext cx="820908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581800" y="3619440"/>
            <a:ext cx="3238200" cy="90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ices: MDS, GRAM,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idF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cheduling inst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V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ganization-wid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olic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580000" y="1989000"/>
            <a:ext cx="3238560" cy="649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MAA 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ience Gatew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924360" y="1557360"/>
            <a:ext cx="1584360" cy="228132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2281320"/>
              <a:gd name="textAreaBottom" fmla="*/ 2204280 h 2281320"/>
            </a:gdLst>
            <a:ahLst/>
            <a:rect l="textAreaLeft" t="textAreaTop" r="textAreaRight" b="textAreaBottom"/>
            <a:pathLst>
              <a:path w="21600" h="31100">
                <a:moveTo>
                  <a:pt x="3600" y="0"/>
                </a:moveTo>
                <a:arcTo wR="3600" hR="3600" stAng="16200000" swAng="-5400000"/>
                <a:lnTo>
                  <a:pt x="0" y="27500"/>
                </a:lnTo>
                <a:arcTo wR="3600" hR="3600" stAng="10800000" swAng="-5400000"/>
                <a:lnTo>
                  <a:pt x="18000" y="311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1f1f1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40360" y="3252960"/>
            <a:ext cx="1150920" cy="360360"/>
          </a:xfrm>
          <a:prstGeom prst="roundRect">
            <a:avLst>
              <a:gd name="adj" fmla="val 16667"/>
            </a:avLst>
          </a:prstGeom>
          <a:solidFill>
            <a:srgbClr val="3242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140360" y="2486160"/>
            <a:ext cx="1150920" cy="36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13640" y="1700280"/>
            <a:ext cx="1418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Virtu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55640" y="3133800"/>
            <a:ext cx="8209080" cy="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95640" y="3500280"/>
            <a:ext cx="24588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95640" y="2708280"/>
            <a:ext cx="24588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46200" y="-7632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425d"/>
                </a:solidFill>
                <a:latin typeface="Arial"/>
              </a:rPr>
              <a:t>3. Grid Infrastructures</a:t>
            </a: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711360" y="1122480"/>
            <a:ext cx="818172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93600" indent="-9360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ltiple meta-scheduler layers in a hierarchical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ource provision in a utility fashion (provider/consum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 &amp; Benef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ly resources on-demand, making resource provision more adap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ess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limi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omputational capa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 IT costs from fixed to var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amless integration of different Grids (The Gr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ch Grid is handled as any other re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aracterization of a Grid as a single re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standard interfaces to virtualize a Grid infra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5440" y="600120"/>
            <a:ext cx="6137280" cy="441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2425d"/>
                </a:solidFill>
                <a:latin typeface="Arial"/>
              </a:rPr>
              <a:t>Utility Grid Infra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39720" y="1039680"/>
            <a:ext cx="8035920" cy="0"/>
          </a:xfrm>
          <a:prstGeom prst="line">
            <a:avLst/>
          </a:prstGeom>
          <a:ln w="9360">
            <a:solidFill>
              <a:srgbClr val="32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46200" y="-7632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425d"/>
                </a:solidFill>
                <a:latin typeface="Arial"/>
              </a:rPr>
              <a:t>3. Grid Infrastructures</a:t>
            </a: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Office 2004 Test Drive User</cp:lastModifiedBy>
  <dcterms:modified xsi:type="dcterms:W3CDTF">2007-09-10T14:21:18Z</dcterms:modified>
  <cp:revision>127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29014763</vt:r8>
  </property>
  <property fmtid="{D5CDD505-2E9C-101B-9397-08002B2CF9AE}" pid="3" name="_AuthorEmail">
    <vt:lpwstr>llorente@dacya.ucm.es</vt:lpwstr>
  </property>
  <property fmtid="{D5CDD505-2E9C-101B-9397-08002B2CF9AE}" pid="4" name="_AuthorEmailDisplayName">
    <vt:lpwstr>Ignacio Martin Llorente</vt:lpwstr>
  </property>
  <property fmtid="{D5CDD505-2E9C-101B-9397-08002B2CF9AE}" pid="5" name="_EmailSubject">
    <vt:lpwstr>Comentario de Ian Foster y Formato Transparencias</vt:lpwstr>
  </property>
  <property fmtid="{D5CDD505-2E9C-101B-9397-08002B2CF9AE}" pid="6" name="_NewReviewCycle">
    <vt:lpwstr/>
  </property>
</Properties>
</file>